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1C8-B903-442A-8908-20C87259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7A0-8CBC-4786-9083-1C4D0DB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E44-B7FD-4AA1-B7BE-AB35F74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A82-89AA-402C-812D-DF7CC335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55EE-784D-4BAF-BC20-64CD8A0C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4FD-F885-41C2-959A-1BE1E1A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84F1-C6D9-46D4-ADBE-2021C49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CFB2-FCB9-4FF8-83EF-02399F9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D13-A485-44A9-8C24-868C2BF6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229-3E2A-4681-A71A-FE8D67B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B418-86D7-456A-9ABD-BC0351B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707-9D95-4B59-98D0-4177A10C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9A66-A28F-4E5A-8C1F-F687E4E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8BF-FBE7-4D30-B879-1EC37C7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5C6-3DFD-4A44-931B-B525E77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C6D-C63B-4813-8032-86A6E1EB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59A-97CB-474A-B7A1-BB342556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49C-B1FA-4803-8080-4EC32C9A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621-CE71-4362-B21F-C6D47C2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2ED-8F18-4FF9-962B-44D91DE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361-1084-406E-9D9F-BB605E3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164-FA1E-47E7-91DE-46220BD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F36-4DCE-415E-AA3D-15CB694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A5C-EA7D-4177-9D24-D6C8533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0A29-C4BC-481F-86BE-A111BCDA9A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181-60AA-4B60-998C-7CEB0FE6B2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bble:Gobble::Sip: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:Gridiron::baseball: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ad Emers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1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ere is the photo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172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44:42Z</dcterms:created>
  <dc:creator>Angie</dc:creator>
  <dc:description/>
  <dc:language>en-US</dc:language>
  <cp:lastModifiedBy>VMS</cp:lastModifiedBy>
  <dcterms:modified xsi:type="dcterms:W3CDTF">2009-09-22T13:26:13Z</dcterms:modified>
  <cp:revision>4</cp:revision>
  <dc:subject/>
  <dc:title>English</dc:title>
</cp:coreProperties>
</file>